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3590-A49F-4518-9D35-71AEF9C05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, maintaining body temperature, contracting muscles, maintaining brai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60-70% of the energy a human body uses in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J/m2/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MR is affected by age, gender, growth &amp; development, muscle mass (e.g., more fat = lower BMR), health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http://www.vrp.com/neuroendocrine-support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manuelsweb.com/ped_dose_nomo.htm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port-fitness-advisor.com/lactate-thresh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A50-2E4A-4CD1-ABFF-2535165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2E5-F65A-4EEE-994E-5BFD6A76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23F-3D66-4BBE-88C5-76E73FB9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3D2-E396-4F57-B39C-FCF86DB9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18D-3942-410B-9998-C87F5BFE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2C7-7D68-449C-8F16-7B774D6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57C-9D4F-4A1D-9B2B-FB1F8D72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417-4D9D-4C5E-9F84-8F66EEB8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D9C-C52E-44FC-BC4E-EC6C6C9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DA9-5070-40CE-AABB-3206A8B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9D4-5CF7-47EB-8ACA-8AF27A5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0EE-BF1E-48CB-8DB3-2CAA7764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C07B-32F0-4E2C-8305-35B85F0E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R, 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of Metabolism &amp;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al 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amount of E consumed by an organism in a given time (overall rate of aerobic &amp; anaerobic respiration re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al metabolic rate (BM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metabolic rate at rest (kJ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R and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77960" y="1981080"/>
            <a:ext cx="578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87520" y="1981080"/>
            <a:ext cx="6167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ate threshold (L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value of exercise intensity at which blood lactate concentration begins to increase shar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mproves blood circulation and oxygen delivery, which results in an increase in lactate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82560" y="1981080"/>
            <a:ext cx="597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5:06:32Z</dcterms:created>
  <dc:creator>rubina khan</dc:creator>
  <dc:description/>
  <dc:language>en-US</dc:language>
  <cp:lastModifiedBy>rubina khan</cp:lastModifiedBy>
  <dcterms:modified xsi:type="dcterms:W3CDTF">2012-10-24T10:37:57Z</dcterms:modified>
  <cp:revision>39</cp:revision>
  <dc:subject/>
  <dc:title>BMR, VO2 max, Lactate Threshold</dc:title>
</cp:coreProperties>
</file>